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1.jpeg" ContentType="image/jpeg"/>
  <Override PartName="/ppt/media/image16.jpeg" ContentType="image/jpeg"/>
  <Override PartName="/ppt/media/image19.wmf" ContentType="image/x-wmf"/>
  <Override PartName="/ppt/media/image14.jpeg" ContentType="image/jpeg"/>
  <Override PartName="/ppt/media/image15.wmf" ContentType="image/x-wmf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927-6794-4633-BE3C-F386E89F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799-96A1-4266-BC55-6C809C0A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72F-9CCE-49C8-90DD-BA1A071A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B11F-39AA-4F96-8EF5-9ECE310F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E1FE-291F-4271-8089-54C719E4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7F01-B3F3-4C86-A952-0DBEF51A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ABB0-60D5-4910-AE22-DCDF3FEB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4262-6E9B-4700-9CE4-202BE835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C88F-5993-4DE9-97B2-CF8A756B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E4D9-8463-4BAF-A258-B725809E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3510-5B5D-4F6E-A72B-DD389BFF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A97-9B6B-4E73-A546-5EB9A419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C37E-7092-4DEC-BD7B-4D9BB4BC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9D4A-76E8-4D59-BC0B-0CFD30CB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AB3C-30F4-488E-8D73-2A8C14D9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1D97-7B23-4E51-8C4D-DBCF03AD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6437-2C2D-407F-B95A-C78EE4B0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2634-32AD-4D6E-8C19-09070B57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118-0C06-4EDD-AB99-C2B38385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B45-051C-4640-98F1-EC2A880C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A21-F34F-4765-9545-AB4986C9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685-F40A-4802-9CC1-222ED2E9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1E8-7733-4774-A9AC-C984C5A3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6CA-BBE7-4FE9-8A75-AF0735CF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6BB0-29AF-4FBB-AFCD-9FCF26A7E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6AE9-ACE2-45E4-A146-9EA7DFB1E31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27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ntum Phys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x Planc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8 – 19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ed a “quantum of action,” 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warded Nobel Prize in 1918 for discovering the quantized nature of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1030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65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otoelectric Eff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light is incident on certain metallic surfaces, electrons are emitted from the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hotoelectric eff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mitted electron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hotoelectr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ffect was first discovered by Hert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ccessful explanation of the effect was given by Einstein in 19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eived Nobel Prize in 1921 for paper on electromagnetic radiation, of which the photoelectric effect was a p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otoelectric Effect Schematic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light strikes E,  photoelectrons are emit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collected at C and passing through the ammeter are a current in the circu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is maintained at a positive potential by the power su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1"/>
          <a:stretch/>
        </p:blipFill>
        <p:spPr>
          <a:xfrm>
            <a:off x="4495680" y="2058840"/>
            <a:ext cx="447048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otoelectric Current/Voltage Grap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increases with intensity, but reaches a saturation level for larg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ΔV’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No current flows for voltages less than or equal to –Δ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stopping potent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The stopping potential is independent of the radiation inten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1"/>
          <a:stretch/>
        </p:blipFill>
        <p:spPr>
          <a:xfrm>
            <a:off x="4343400" y="2182680"/>
            <a:ext cx="469908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Photoelectric Eff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topping potential is independent of the radiation intens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ximum kinetic energy of the photoelectrons is related to the stopping potential:  K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 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Features Not Explained by Classical Physics/Wave Theory</a:t>
            </a:r>
            <a:endParaRPr b="0" lang="en-US" sz="3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electrons are emitted if the incident light frequency is below som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cutoff frequenc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at is characteristic of the material being illumina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ximum kinetic energy of the photoelectrons is independent of the light intens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Features Not Explaine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ximum kinetic energy of the photoelectrons increases with increasing light freque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s are emitted from the surface almost instantaneously, even at low intens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instein’s Explan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iny packet of light energy, called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ho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ould be emitted when a quantized oscillator jumped from one energy level to the next lower 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tended Planck’s idea of quantization to electromagnetic radi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hoton’s energy would be E = 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hoton can give all its energy to an electron in the me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ximum kinetic energy of the liberated photoelectron is K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ƒ – 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Φ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work f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of the me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xplanation of Classical “Problems”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ffect is not observed below a certain cutoff frequency since the photon energy must be greater than or equal to the work f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out this, electrons are not emitted, regardless of the intensity of the l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ximum KE depends only on the frequency and the work function, not on the inten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Explan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ximum KE increases with increasing freque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ffect is instantaneous since there is a one-to-one interaction between the photon and the electr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eed for Quantum Physic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s remained from classical mechanics that relativity didn’t expl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ackbody Ra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ectromagnetic radiation emitted by a heated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toelectric Eff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ission of electrons by an illuminated me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tral 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ission of sharp spectral lines by gas atoms in an electric discharge tu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rification of Einstein’s Theor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erimental observations of a linear relationship between KE and frequency confirm Einstein’s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x-intercept is the cutoff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6" descr="Fig 27-06"/>
          <p:cNvPicPr/>
          <p:nvPr/>
        </p:nvPicPr>
        <p:blipFill>
          <a:blip r:embed="rId1"/>
          <a:stretch/>
        </p:blipFill>
        <p:spPr>
          <a:xfrm>
            <a:off x="5145120" y="2509920"/>
            <a:ext cx="38098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utoff Waveleng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utoff wavelength is related to the work fun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velengths greater th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cident on a material with a work fun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don’t result in the emission of photoelectr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Object 1024"/>
          <p:cNvGraphicFramePr/>
          <p:nvPr/>
        </p:nvGraphicFramePr>
        <p:xfrm>
          <a:off x="3124080" y="2971800"/>
          <a:ext cx="152424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971800"/>
                    <a:ext cx="152424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otocel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otocells are an application of the photoelectric eff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light of sufficiently high frequency falls on the cell, a current is produc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etlights, garage door openers, elev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mile into the photoelectric camera!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ork function of Zinc is 4.31eV. What is the cutoff wavelength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KE per electron if we illuminate Zinc with light of wavelength 3 n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ive all answers in eV and Jou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X-Ray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magnetic radiation with short waveleng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s less than for ultravio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s are typically about 0.1 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-rays have the ability to penetrate most materials with relative 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ed and named by Roentgen in 189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Production of X-rays, 1(reverse photoelctric?)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017800"/>
            <a:ext cx="468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-rays are produced when high-speed electrons are suddenly slowed dow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be caused by the electron striking a metal tar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urrent in the filament causes electrons to be emit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freed electrons are accelerated toward a dense metal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target is held at a higher potential than the fila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6" descr="Fig 27-08a"/>
          <p:cNvPicPr/>
          <p:nvPr/>
        </p:nvPicPr>
        <p:blipFill>
          <a:blip r:embed="rId1"/>
          <a:stretch/>
        </p:blipFill>
        <p:spPr>
          <a:xfrm>
            <a:off x="5334120" y="2133720"/>
            <a:ext cx="380988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X-ray Spectr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407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x-ray spectrum has two distinct compon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ous broad spectr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ends on voltage applied to the tu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call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remsstrahl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harp, intense lines depend on the nature of the target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975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duction of X-ray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lectron passes near a target nucle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ectron is deflected from its path by its attraction to the nucle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produces an accel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ill emit electromagnetic radiation when it is acceler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6" descr="Fig 27-10"/>
          <p:cNvPicPr/>
          <p:nvPr/>
        </p:nvPicPr>
        <p:blipFill>
          <a:blip r:embed="rId1"/>
          <a:stretch/>
        </p:blipFill>
        <p:spPr>
          <a:xfrm>
            <a:off x="4343400" y="2666880"/>
            <a:ext cx="46116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velengths Produce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 electron loses all of its energy in the collision, the initial energy of the electron is completely transformed into a ph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avelength can be found fr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2133720" y="5181480"/>
          <a:ext cx="3886200" cy="12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5181480"/>
                    <a:ext cx="388620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velengths Produced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all radiation produced is at this wave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electrons undergo more than one collision before being stop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results in the continuous spectrum produ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velopment of Quantum Physic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900 to 193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velopment of ideas of quantum mechan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called wave mechan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ly successful in explaining the behavior of atoms, molecules, and nucl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olved a large number of physicis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nck introduced basic ide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hematical developments and interpretations involved such people as Einstein, Bohr, Sch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ahoma"/>
              </a:rPr>
              <a:t>ödinger, de Broglie, Heisenberg, Born and Dira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raction of X-rays by Crysta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diffraction to occur, the spacing between the lines must be approximately equal to the wavelength of the radiation to be measu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gular array of atoms in a crystal can act as a three-dimensional grating for diffracting X-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chematic for X-ray Diffr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201780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eam of X-rays with a continuous range of wavelengths is incident on the crys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ffracted radiation is very intense in certain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directions correspond to constructive interference from waves reflected from the layers of the crys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ffraction pattern is detected by photographic fil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6" descr="Fig 27-11"/>
          <p:cNvPicPr/>
          <p:nvPr/>
        </p:nvPicPr>
        <p:blipFill>
          <a:blip r:embed="rId1"/>
          <a:stretch/>
        </p:blipFill>
        <p:spPr>
          <a:xfrm>
            <a:off x="4572000" y="2590920"/>
            <a:ext cx="43830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oto of X-ray Diffraction Patter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array of spots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au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rystal structure is determined by analyzing the positions and intensities of the various sp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? How do we find out the atomic spacing in a crystalline structure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ragg’s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beam reflected from the lower surface travels farther than the one reflected from the upper surf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the path difference equals some integral multiple of the wavelength, constructive interference occu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Bragg’s La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gives the conditions for constructive interfer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d si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θ = m λ, m = 1, 2, 3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6" descr="Fig 27-13"/>
          <p:cNvPicPr/>
          <p:nvPr/>
        </p:nvPicPr>
        <p:blipFill>
          <a:blip r:embed="rId1"/>
          <a:stretch/>
        </p:blipFill>
        <p:spPr>
          <a:xfrm>
            <a:off x="4572000" y="2666880"/>
            <a:ext cx="44956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thur Holly Compt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92 – 196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ed the Compton eff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ed with cosmic 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or of the lab at U of Chica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d Nobel Prize in 192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1030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676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Compton Eff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ton directed a beam of x-rays toward a block of graph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 found that the scattered x-rays had a slightly longer wavelength that the incident x-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means they also had less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mount of energy reduction depended on the angle at which the x-rays were scatt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nge in wavelength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mpton shi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pton Scatte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0448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ton assumed the photons acted like other particles in colli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ergy and momentum were conserv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hift in wavelength 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Object 1024"/>
          <p:cNvGraphicFramePr/>
          <p:nvPr/>
        </p:nvGraphicFramePr>
        <p:xfrm>
          <a:off x="406440" y="5702400"/>
          <a:ext cx="41655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5702400"/>
                    <a:ext cx="41655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Picture 10" descr=""/>
          <p:cNvPicPr/>
          <p:nvPr/>
        </p:nvPicPr>
        <p:blipFill>
          <a:blip r:embed="rId3"/>
          <a:stretch/>
        </p:blipFill>
        <p:spPr>
          <a:xfrm>
            <a:off x="3867120" y="2438280"/>
            <a:ext cx="527688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pton Scattering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uantity h/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mpton wave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ton wavelength = 0.002 43 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y small compared to visible l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mpton shift depends on the scattering angle and not on the wave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eriments confirm the results of Compton scattering and strongly support the photon conce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otons and Electromagnetic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Light has a dual nature.  It exhibits both wave and particle characterist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es to all electromagnetic r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frequencies allow one or the other characteristic to be more easily obser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hotoelectric effect and Compton scattering offer evidence for the particle nature of l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light and matter interact, light behaves as if it were composed of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ference and diffraction offer evidence of the wave nature of l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ouis de Brogli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92 – 198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ed the wave nature of elec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warded Nobel Prize in 192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1030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803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lackbody Radi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bject at any temperature emits electromagnetic radi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ermal ra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fan’s Law describes the total power radi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ectrum of the radiation depends on the temperature and properties of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ve Properties of Partic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1924, Louis de Broglie postulated tha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ecause photons have wave and particle characteristics, perhaps all forms of matter have both prope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rthermore, the frequency and wavelength of matter waves can be deter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 Broglie Wavelength and Frequenc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e Broglie waveleng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particle i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requency of matter waves 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1747800" y="2994120"/>
          <a:ext cx="2146320" cy="12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2994120"/>
                    <a:ext cx="214632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025"/>
          <p:cNvGraphicFramePr/>
          <p:nvPr/>
        </p:nvGraphicFramePr>
        <p:xfrm>
          <a:off x="2060640" y="4782960"/>
          <a:ext cx="136692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60640" y="4782960"/>
                    <a:ext cx="13669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ual Nature of Mat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e Broglie equations show the dual nature of mat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contains matter conce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ergy and moment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contains wave conce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length and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s Michael a wave or a particle?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wavelength of Michael(mass = 80kg.), if he os moving at 15m/c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Davisson-Germer Experim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y scattered low-energy electrons from a nickel tar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y followed this with extensive diffraction measurements from various materia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avelength of the electrons calculated from the diffraction data agreed with the expected de Broglie waveleng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confirmed the wave nature of electr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ther experimenters have confirmed the wave nature of other partic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Electron Microscop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484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ectron microscope depends on the wave characteristics of electr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scopes can only resolve details that are slightly smaller than the wavelength of the radiation used to illuminate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ectrons can be accelerated to high energies and have small waveleng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4" descr="Fig 27-17a"/>
          <p:cNvPicPr/>
          <p:nvPr/>
        </p:nvPicPr>
        <p:blipFill>
          <a:blip r:embed="rId1"/>
          <a:stretch/>
        </p:blipFill>
        <p:spPr>
          <a:xfrm>
            <a:off x="5486400" y="1600200"/>
            <a:ext cx="3273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rwin Schröding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87 – 196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st known as the creator of wave mechan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ed on problems in general relativity, cosmology, and the application of quantum mechanics to bi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030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50684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Wave Fun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1926 Sch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ödinger proposed a wave equation that describes the manner in which matter waves change in space an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ödinger’s wave equation is a key element in quantum mechan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ödinger’s wave equation is generally solved for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wave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, Ψ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Wave Funct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The wave function depends on the particle’s position and the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The value of Ψ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at some location at a given time is proportional to the probability of finding the particle at that location at that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erner Heisenber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01 – 197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d an abstract mathematical model to explain wavelengths of spectral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atrix mechan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contrib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certainty Princi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bel Prize in 19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omic and nuclear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s of molecular hydro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1030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700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lackbody Radiation Grap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438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al data for distribution of energy in blackbody r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temperature increases, the total amount of energy in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wn by the area under the cur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temperature increases, the peak of the distribution shifts to shorter waveleng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6" descr="Fig 27-02"/>
          <p:cNvPicPr/>
          <p:nvPr/>
        </p:nvPicPr>
        <p:blipFill>
          <a:blip r:embed="rId1"/>
          <a:stretch/>
        </p:blipFill>
        <p:spPr>
          <a:xfrm>
            <a:off x="5105520" y="1905120"/>
            <a:ext cx="33084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Uncertainty Princi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measurements are made, the experimenter is always faced with experimental uncertainties in the measu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ical mechanics offers no fundamental barrier to ultimate refinements in measu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ical mechanics would allow for measurements with arbitrarily small uncertain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Uncertainty Principle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ntum mechanics predicts that a barrier to measurements with ultimately small uncertainties does ex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1927 Heisenberg introduc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ncertainty princi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measurement of position of a particle is made with precis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Δx and a simultaneous measurement of linear momentum is made with precision Δ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, then the product of the two uncertainties can never be smaller than h/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Uncertainty Principle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hematically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physically impossible to measure simultaneously the exact position and the exact linear momentum of a parti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other form of the principle deals with energy and time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0"/>
              <p:cNvSpPr txBox="1"/>
              <p:nvPr/>
            </p:nvSpPr>
            <p:spPr>
              <a:xfrm>
                <a:off x="4952880" y="1752480"/>
                <a:ext cx="2210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Δ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"/>
              <p:cNvSpPr txBox="1"/>
              <p:nvPr/>
            </p:nvSpPr>
            <p:spPr>
              <a:xfrm>
                <a:off x="3657600" y="5803920"/>
                <a:ext cx="1971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Δt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ought Experiment – the Uncertainty Princi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hought experiment for viewing an electron with a powerful microsc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order to see the electron, at least one photon must bounce off 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this interaction, momentum is transferred from the photon to the electr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fore, the light that allows you to accurately locate the electron changes the momentum of the electr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6" descr="Fig 27-18ab"/>
          <p:cNvPicPr/>
          <p:nvPr/>
        </p:nvPicPr>
        <p:blipFill>
          <a:blip r:embed="rId1"/>
          <a:stretch/>
        </p:blipFill>
        <p:spPr>
          <a:xfrm>
            <a:off x="2590920" y="1981080"/>
            <a:ext cx="41259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certainty Principle Applied to an Electr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ew the electron as a parti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s position and velocity cannot both be know precisely at the same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s energy can be uncertain for a period given by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 = h / (4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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icroscope Resolu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ordinary microscopes, the resolution is limited by the wavelength of the waves used to make the im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cal, resolution is about 200 n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, resolution is about 0.2 n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 high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uld penetrate the target, so not give surface det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canning Tunneling Microscope (STM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highly detailed images with resolution comparable to the size of a single at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nducting probe with a sharp tip is brought near the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ectrons can “tunnel” across the barrier of empty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6" descr="Fig 27-20"/>
          <p:cNvPicPr/>
          <p:nvPr/>
        </p:nvPicPr>
        <p:blipFill>
          <a:blip r:embed="rId1"/>
          <a:stretch/>
        </p:blipFill>
        <p:spPr>
          <a:xfrm>
            <a:off x="5257800" y="1981080"/>
            <a:ext cx="3541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canning Tunneling Microscop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applying a voltage between the surface and the tip, the electrons can be made to tunnel preferentially from surface to t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ip samples the distribution of electrons just above the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M is very sensitive to the distance between the surface and the t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measurements of the height of surface features within 0.001 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M Result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240" y="2017800"/>
            <a:ext cx="38098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 “quantum corral” of 48 iron atoms on a copper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ameter of the ring is 143 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ed with a low temperature S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51055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mitation of the ST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is a serious limitation to the STM since it depends on the conductivity of the surface and the t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materials are not conductive at their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tomic force microscop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as been developed that overcomes this limi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measures the force between the tip and the sample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comparable sensi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ien’s Displacement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avelength of the peak of the blackbody distribution was found to follow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ein’s Displacement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T = 0.2898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m • 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is the wavelength at which the curve’s pe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T is the absolute temperature of the object emitting the r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cepts, # 2,5,7,11,1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#2,4,5,6,12,13,14,19,20,23,24,26,27,28,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Ultraviolet Catastroph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20" y="2286000"/>
            <a:ext cx="461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assical theory did not match the experimental d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 long wavelengths, the match is go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 short wavelengths, classical theory predicted infinite energ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 short wavelengths, experiment showed no energ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contradiction is called 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ultraviolet catastroph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4597560" y="1981080"/>
            <a:ext cx="447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lanck’s Resolu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ck hypothesized that the blackbody radiation was produced b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son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onators were submicroscopic charged oscill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onators could only hav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screte ener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n h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quantum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ƒ is the frequency of vib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anck’s consta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6.626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3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J 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point is quantized energy st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r trek physic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ottie, hit them with 24 photons from the photon torpedo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ye captain but we’re low on energy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uch energy did Scottie need measured in Joules and in e∆V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23:23:56Z</dcterms:created>
  <dc:creator>Brooks/Cole</dc:creator>
  <dc:description/>
  <dc:language>en-US</dc:language>
  <cp:lastModifiedBy>gandella</cp:lastModifiedBy>
  <dcterms:modified xsi:type="dcterms:W3CDTF">2012-02-28T13:28:06Z</dcterms:modified>
  <cp:revision>25</cp:revision>
  <dc:subject/>
  <dc:title>Chapter 27</dc:title>
</cp:coreProperties>
</file>